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10.wmf" ContentType="image/x-wmf"/>
  <Override PartName="/ppt/media/image47.wmf" ContentType="image/x-wmf"/>
  <Override PartName="/ppt/media/image40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26.wmf" ContentType="image/x-wmf"/>
  <Override PartName="/ppt/media/image16.wmf" ContentType="image/x-wmf"/>
  <Override PartName="/ppt/media/image17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61.gif" ContentType="image/gif"/>
  <Override PartName="/ppt/media/image21.wmf" ContentType="image/x-wmf"/>
  <Override PartName="/ppt/media/image19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D8FF-143E-4754-BC2B-CA90545B42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CF10-5530-4120-94C8-EE852539A4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05F-B1D8-4FD3-A27D-58817521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C48-B084-4F12-AB92-E473F4D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3F8-A0E8-4F8C-B5F5-7B324A32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B28-05A6-4342-B1F1-A0A8892F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E87-CB70-44EF-894D-937528E4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BB2-8DD7-4348-B023-5D20EBF9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372-6BE6-4DB3-898D-09192B25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D3E-844D-4CBE-A279-09590499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29B-6490-49F0-9B06-B18A2DC2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66E-3BD9-4024-854B-4DD8F20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090-E714-4832-8173-67C3A0D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AC6-E4A0-4236-AA9D-59DF2BA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17A0-F1BB-458F-B56B-8E6B2A3D20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7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7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0.wmf"/><Relationship Id="rId8" Type="http://schemas.openxmlformats.org/officeDocument/2006/relationships/image" Target="../media/image61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5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8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2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2" name="Object 2"/>
          <p:cNvGraphicFramePr/>
          <p:nvPr/>
        </p:nvGraphicFramePr>
        <p:xfrm>
          <a:off x="826920" y="836640"/>
          <a:ext cx="3529080" cy="1260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836640"/>
                    <a:ext cx="3529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27"/>
          <p:cNvGraphicFramePr/>
          <p:nvPr/>
        </p:nvGraphicFramePr>
        <p:xfrm>
          <a:off x="898560" y="1555920"/>
          <a:ext cx="7427880" cy="1225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2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98560" y="1555920"/>
                    <a:ext cx="7427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28"/>
          <p:cNvGraphicFramePr/>
          <p:nvPr/>
        </p:nvGraphicFramePr>
        <p:xfrm>
          <a:off x="961920" y="3095640"/>
          <a:ext cx="3394080" cy="1146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27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61920" y="3095640"/>
                    <a:ext cx="33940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29"/>
          <p:cNvGraphicFramePr/>
          <p:nvPr/>
        </p:nvGraphicFramePr>
        <p:xfrm>
          <a:off x="961920" y="3770280"/>
          <a:ext cx="7139160" cy="13892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29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61920" y="3770280"/>
                    <a:ext cx="713916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30"/>
          <p:cNvGraphicFramePr/>
          <p:nvPr/>
        </p:nvGraphicFramePr>
        <p:xfrm>
          <a:off x="5003640" y="2492280"/>
          <a:ext cx="3313440" cy="79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2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2492280"/>
                    <a:ext cx="33134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32"/>
          <p:cNvGraphicFramePr/>
          <p:nvPr/>
        </p:nvGraphicFramePr>
        <p:xfrm>
          <a:off x="4932360" y="1557360"/>
          <a:ext cx="3168720" cy="846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4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32360" y="1557360"/>
                    <a:ext cx="31687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3"/>
          <p:cNvGraphicFramePr/>
          <p:nvPr/>
        </p:nvGraphicFramePr>
        <p:xfrm>
          <a:off x="4284720" y="4797360"/>
          <a:ext cx="4367160" cy="863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37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284720" y="4797360"/>
                    <a:ext cx="4367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35"/>
          <p:cNvGraphicFramePr/>
          <p:nvPr/>
        </p:nvGraphicFramePr>
        <p:xfrm>
          <a:off x="826920" y="4797360"/>
          <a:ext cx="3457800" cy="881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40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6920" y="4797360"/>
                    <a:ext cx="34578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6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3" name="Object 2"/>
          <p:cNvGraphicFramePr/>
          <p:nvPr/>
        </p:nvGraphicFramePr>
        <p:xfrm>
          <a:off x="826920" y="1125360"/>
          <a:ext cx="919440" cy="45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919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2382840" y="963720"/>
          <a:ext cx="1838160" cy="81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82840" y="963720"/>
                    <a:ext cx="18381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4"/>
          <p:cNvGraphicFramePr/>
          <p:nvPr/>
        </p:nvGraphicFramePr>
        <p:xfrm>
          <a:off x="5656320" y="852480"/>
          <a:ext cx="18050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56320" y="852480"/>
                    <a:ext cx="18050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3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8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1" name="Object 2"/>
          <p:cNvGraphicFramePr/>
          <p:nvPr/>
        </p:nvGraphicFramePr>
        <p:xfrm>
          <a:off x="954000" y="2154240"/>
          <a:ext cx="7074000" cy="1346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9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4000" y="2154240"/>
                    <a:ext cx="70740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27"/>
          <p:cNvSpPr/>
          <p:nvPr/>
        </p:nvSpPr>
        <p:spPr>
          <a:xfrm>
            <a:off x="1242360" y="138384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分段函数的定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6" name="Object 2"/>
          <p:cNvGraphicFramePr/>
          <p:nvPr/>
        </p:nvGraphicFramePr>
        <p:xfrm>
          <a:off x="324000" y="765000"/>
          <a:ext cx="7127640" cy="1440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765000"/>
                    <a:ext cx="71276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3"/>
          <p:cNvGraphicFramePr/>
          <p:nvPr/>
        </p:nvGraphicFramePr>
        <p:xfrm>
          <a:off x="468360" y="1916280"/>
          <a:ext cx="6203880" cy="1584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19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916280"/>
                    <a:ext cx="620388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0" name="Picture 28" descr=""/>
          <p:cNvPicPr/>
          <p:nvPr/>
        </p:nvPicPr>
        <p:blipFill>
          <a:blip r:embed="rId10"/>
          <a:stretch/>
        </p:blipFill>
        <p:spPr>
          <a:xfrm>
            <a:off x="6300720" y="1628640"/>
            <a:ext cx="2448000" cy="236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324000" y="3933720"/>
          <a:ext cx="8059680" cy="14400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000" y="3933720"/>
                    <a:ext cx="80596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32"/>
          <p:cNvGraphicFramePr/>
          <p:nvPr/>
        </p:nvGraphicFramePr>
        <p:xfrm>
          <a:off x="2050920" y="4869000"/>
          <a:ext cx="43214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5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4869000"/>
                    <a:ext cx="4321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8" name="Object 2"/>
          <p:cNvGraphicFramePr/>
          <p:nvPr/>
        </p:nvGraphicFramePr>
        <p:xfrm>
          <a:off x="539640" y="907920"/>
          <a:ext cx="4464000" cy="820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907920"/>
                    <a:ext cx="44640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465120" y="1781280"/>
          <a:ext cx="8150400" cy="1474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" y="1781280"/>
                    <a:ext cx="815040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4"/>
          <p:cNvGraphicFramePr/>
          <p:nvPr/>
        </p:nvGraphicFramePr>
        <p:xfrm>
          <a:off x="539640" y="3284640"/>
          <a:ext cx="7305840" cy="12207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3284640"/>
                    <a:ext cx="73058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7"/>
          <p:cNvGraphicFramePr/>
          <p:nvPr/>
        </p:nvGraphicFramePr>
        <p:xfrm>
          <a:off x="2411280" y="4581360"/>
          <a:ext cx="4915080" cy="935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4581360"/>
                    <a:ext cx="49150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58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7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9" name="Object 27"/>
          <p:cNvGraphicFramePr/>
          <p:nvPr/>
        </p:nvGraphicFramePr>
        <p:xfrm>
          <a:off x="1187280" y="1052640"/>
          <a:ext cx="298620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0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1052640"/>
                    <a:ext cx="29862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28"/>
          <p:cNvGraphicFramePr/>
          <p:nvPr/>
        </p:nvGraphicFramePr>
        <p:xfrm>
          <a:off x="5003640" y="1052640"/>
          <a:ext cx="1968840" cy="97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03640" y="1052640"/>
                    <a:ext cx="196884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5" name="Object 2"/>
          <p:cNvGraphicFramePr/>
          <p:nvPr/>
        </p:nvGraphicFramePr>
        <p:xfrm>
          <a:off x="1042920" y="2303640"/>
          <a:ext cx="7058160" cy="2709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303640"/>
                    <a:ext cx="705816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矩形 18"/>
          <p:cNvSpPr/>
          <p:nvPr/>
        </p:nvSpPr>
        <p:spPr>
          <a:xfrm>
            <a:off x="2183760" y="1357200"/>
            <a:ext cx="3472560" cy="4597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高级计算器可以方便地计算定积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20"/>
          <p:cNvGrpSpPr/>
          <p:nvPr/>
        </p:nvGrpSpPr>
        <p:grpSpPr>
          <a:xfrm>
            <a:off x="3470400" y="4581360"/>
            <a:ext cx="1906560" cy="714600"/>
            <a:chOff x="3470400" y="4581360"/>
            <a:chExt cx="1906560" cy="714600"/>
          </a:xfrm>
        </p:grpSpPr>
        <p:pic>
          <p:nvPicPr>
            <p:cNvPr id="509" name="Picture 33" descr="00066"/>
            <p:cNvPicPr/>
            <p:nvPr/>
          </p:nvPicPr>
          <p:blipFill>
            <a:blip r:embed="rId8"/>
            <a:stretch/>
          </p:blipFill>
          <p:spPr>
            <a:xfrm>
              <a:off x="3470400" y="458136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Box 22"/>
            <p:cNvSpPr/>
            <p:nvPr/>
          </p:nvSpPr>
          <p:spPr>
            <a:xfrm>
              <a:off x="4342680" y="4653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50"/>
          <p:cNvSpPr/>
          <p:nvPr/>
        </p:nvSpPr>
        <p:spPr>
          <a:xfrm>
            <a:off x="1944720" y="316692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的各种计算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3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544760" y="1434960"/>
          <a:ext cx="7780320" cy="134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434960"/>
                    <a:ext cx="77803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5"/>
          <p:cNvGraphicFramePr/>
          <p:nvPr/>
        </p:nvGraphicFramePr>
        <p:xfrm>
          <a:off x="1544760" y="2655720"/>
          <a:ext cx="6191280" cy="192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3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4760" y="2655720"/>
                    <a:ext cx="6191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Object 2"/>
          <p:cNvGraphicFramePr/>
          <p:nvPr/>
        </p:nvGraphicFramePr>
        <p:xfrm>
          <a:off x="898560" y="1411200"/>
          <a:ext cx="6697800" cy="1009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1411200"/>
                    <a:ext cx="66978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27"/>
          <p:cNvSpPr/>
          <p:nvPr/>
        </p:nvSpPr>
        <p:spPr>
          <a:xfrm>
            <a:off x="468360" y="9075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直接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定积分的基本公式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8"/>
          <p:cNvGraphicFramePr/>
          <p:nvPr/>
        </p:nvGraphicFramePr>
        <p:xfrm>
          <a:off x="611280" y="2133720"/>
          <a:ext cx="6762600" cy="16081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2133720"/>
                    <a:ext cx="676260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"/>
          <p:cNvGraphicFramePr/>
          <p:nvPr/>
        </p:nvGraphicFramePr>
        <p:xfrm>
          <a:off x="900000" y="3933720"/>
          <a:ext cx="7172280" cy="7192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3933720"/>
                    <a:ext cx="71722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33"/>
          <p:cNvGraphicFramePr/>
          <p:nvPr/>
        </p:nvGraphicFramePr>
        <p:xfrm>
          <a:off x="1833480" y="2492280"/>
          <a:ext cx="5261040" cy="82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3480" y="2492280"/>
                    <a:ext cx="5261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6"/>
          <p:cNvGraphicFramePr/>
          <p:nvPr/>
        </p:nvGraphicFramePr>
        <p:xfrm>
          <a:off x="684360" y="3213000"/>
          <a:ext cx="5182920" cy="12114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4360" y="3213000"/>
                    <a:ext cx="51829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9"/>
          <p:cNvGraphicFramePr/>
          <p:nvPr/>
        </p:nvGraphicFramePr>
        <p:xfrm>
          <a:off x="826920" y="4508640"/>
          <a:ext cx="4096080" cy="100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Object 3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26920" y="4508640"/>
                    <a:ext cx="4096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1"/>
          <p:cNvGraphicFramePr/>
          <p:nvPr/>
        </p:nvGraphicFramePr>
        <p:xfrm>
          <a:off x="5076720" y="4581360"/>
          <a:ext cx="3229200" cy="830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3" name="Object 4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76720" y="4581360"/>
                    <a:ext cx="32292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2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7"/>
          <p:cNvSpPr/>
          <p:nvPr/>
        </p:nvSpPr>
        <p:spPr>
          <a:xfrm>
            <a:off x="468360" y="9075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直接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定积分的基本公式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2"/>
          <p:cNvGraphicFramePr/>
          <p:nvPr/>
        </p:nvGraphicFramePr>
        <p:xfrm>
          <a:off x="826920" y="1628640"/>
          <a:ext cx="7490160" cy="15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8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628640"/>
                    <a:ext cx="74901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3"/>
          <p:cNvGraphicFramePr/>
          <p:nvPr/>
        </p:nvGraphicFramePr>
        <p:xfrm>
          <a:off x="539640" y="2133720"/>
          <a:ext cx="5743800" cy="1293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0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2133720"/>
                    <a:ext cx="57438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34"/>
          <p:cNvGraphicFramePr/>
          <p:nvPr/>
        </p:nvGraphicFramePr>
        <p:xfrm>
          <a:off x="468360" y="3141720"/>
          <a:ext cx="6369120" cy="7873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42" name="Object 3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141720"/>
                    <a:ext cx="63691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1979640" y="4221000"/>
          <a:ext cx="5430960" cy="7858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4221000"/>
                    <a:ext cx="54309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6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Object 2"/>
          <p:cNvGraphicFramePr/>
          <p:nvPr/>
        </p:nvGraphicFramePr>
        <p:xfrm>
          <a:off x="826920" y="1125360"/>
          <a:ext cx="919440" cy="45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919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1908000" y="981000"/>
          <a:ext cx="2789280" cy="78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8000" y="981000"/>
                    <a:ext cx="27892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5508720" y="836640"/>
          <a:ext cx="2100240" cy="101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836640"/>
                    <a:ext cx="21002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2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Object 2"/>
          <p:cNvGraphicFramePr/>
          <p:nvPr/>
        </p:nvGraphicFramePr>
        <p:xfrm>
          <a:off x="754200" y="1636560"/>
          <a:ext cx="5099040" cy="143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1636560"/>
                    <a:ext cx="509904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矩形 17"/>
          <p:cNvSpPr/>
          <p:nvPr/>
        </p:nvSpPr>
        <p:spPr>
          <a:xfrm>
            <a:off x="3034440" y="9810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第一类换元积分法则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7"/>
          <p:cNvGraphicFramePr/>
          <p:nvPr/>
        </p:nvGraphicFramePr>
        <p:xfrm>
          <a:off x="1403280" y="2852640"/>
          <a:ext cx="6286680" cy="1297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2852640"/>
                    <a:ext cx="62866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33"/>
          <p:cNvGraphicFramePr/>
          <p:nvPr/>
        </p:nvGraphicFramePr>
        <p:xfrm>
          <a:off x="3492360" y="3789360"/>
          <a:ext cx="2463840" cy="93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3789360"/>
                    <a:ext cx="24638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5"/>
          <p:cNvGraphicFramePr/>
          <p:nvPr/>
        </p:nvGraphicFramePr>
        <p:xfrm>
          <a:off x="3564000" y="4869000"/>
          <a:ext cx="3340080" cy="93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3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64000" y="4869000"/>
                    <a:ext cx="33400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2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17"/>
          <p:cNvSpPr/>
          <p:nvPr/>
        </p:nvSpPr>
        <p:spPr>
          <a:xfrm>
            <a:off x="3034440" y="7650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第一类换元积分法则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28"/>
          <p:cNvGraphicFramePr/>
          <p:nvPr/>
        </p:nvGraphicFramePr>
        <p:xfrm>
          <a:off x="684360" y="1268280"/>
          <a:ext cx="5040000" cy="1235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9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268280"/>
                    <a:ext cx="50400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29"/>
          <p:cNvGraphicFramePr/>
          <p:nvPr/>
        </p:nvGraphicFramePr>
        <p:xfrm>
          <a:off x="395280" y="1989000"/>
          <a:ext cx="6515280" cy="14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31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989000"/>
                    <a:ext cx="65152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0"/>
          <p:cNvGraphicFramePr/>
          <p:nvPr/>
        </p:nvGraphicFramePr>
        <p:xfrm>
          <a:off x="684360" y="3645000"/>
          <a:ext cx="4464000" cy="1089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3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3645000"/>
                    <a:ext cx="44640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1"/>
          <p:cNvGraphicFramePr/>
          <p:nvPr/>
        </p:nvGraphicFramePr>
        <p:xfrm>
          <a:off x="539640" y="4508640"/>
          <a:ext cx="6912000" cy="13824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35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4508640"/>
                    <a:ext cx="6912000" cy="13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3924360" y="2924280"/>
          <a:ext cx="4032360" cy="939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4360" y="2924280"/>
                    <a:ext cx="40323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0"/>
          <p:cNvGraphicFramePr/>
          <p:nvPr/>
        </p:nvGraphicFramePr>
        <p:xfrm>
          <a:off x="3851280" y="5373720"/>
          <a:ext cx="4514760" cy="100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1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51280" y="5373720"/>
                    <a:ext cx="4514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4" name="Object 2"/>
          <p:cNvGraphicFramePr/>
          <p:nvPr/>
        </p:nvGraphicFramePr>
        <p:xfrm>
          <a:off x="826920" y="1125360"/>
          <a:ext cx="919440" cy="45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919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"/>
          <p:cNvGraphicFramePr/>
          <p:nvPr/>
        </p:nvGraphicFramePr>
        <p:xfrm>
          <a:off x="2235240" y="866880"/>
          <a:ext cx="2133720" cy="101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35240" y="866880"/>
                    <a:ext cx="21337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4"/>
          <p:cNvGraphicFramePr/>
          <p:nvPr/>
        </p:nvGraphicFramePr>
        <p:xfrm>
          <a:off x="5164200" y="836640"/>
          <a:ext cx="2789280" cy="101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64200" y="836640"/>
                    <a:ext cx="27892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2" name="Object 2"/>
          <p:cNvGraphicFramePr/>
          <p:nvPr/>
        </p:nvGraphicFramePr>
        <p:xfrm>
          <a:off x="468360" y="1844640"/>
          <a:ext cx="823752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844640"/>
                    <a:ext cx="8237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27"/>
          <p:cNvSpPr/>
          <p:nvPr/>
        </p:nvSpPr>
        <p:spPr>
          <a:xfrm>
            <a:off x="1258560" y="116784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积分的分部积分法则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8"/>
          <p:cNvGraphicFramePr/>
          <p:nvPr/>
        </p:nvGraphicFramePr>
        <p:xfrm>
          <a:off x="539640" y="2924280"/>
          <a:ext cx="8064720" cy="1174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2924280"/>
                    <a:ext cx="80647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29"/>
          <p:cNvGraphicFramePr/>
          <p:nvPr/>
        </p:nvGraphicFramePr>
        <p:xfrm>
          <a:off x="2340000" y="4221000"/>
          <a:ext cx="3672000" cy="844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4221000"/>
                    <a:ext cx="36720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8:25Z</dcterms:modified>
  <cp:revision>74</cp:revision>
  <dc:subject/>
  <dc:title>幻灯片 1</dc:title>
</cp:coreProperties>
</file>